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hdr"/>
          </p:nvPr>
        </p:nvSpPr>
        <p:spPr>
          <a:xfrm>
            <a:off x="488880" y="393480"/>
            <a:ext cx="454176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9"/>
          </p:nvPr>
        </p:nvSpPr>
        <p:spPr>
          <a:xfrm>
            <a:off x="3657600" y="385560"/>
            <a:ext cx="316872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Img"/>
          </p:nvPr>
        </p:nvSpPr>
        <p:spPr>
          <a:xfrm>
            <a:off x="1218960" y="759960"/>
            <a:ext cx="4878360" cy="365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ftr" idx="20"/>
          </p:nvPr>
        </p:nvSpPr>
        <p:spPr>
          <a:xfrm>
            <a:off x="488520" y="8727840"/>
            <a:ext cx="34736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 type="sldNum" idx="21"/>
          </p:nvPr>
        </p:nvSpPr>
        <p:spPr>
          <a:xfrm>
            <a:off x="4038480" y="8727840"/>
            <a:ext cx="27878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4F3EE315-360A-4F29-831C-27A2C3ED9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88880" y="8728200"/>
            <a:ext cx="4997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88880" y="8728200"/>
            <a:ext cx="4616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76032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final del capítulo, los alumnos podrán hacer lo siguie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cer una lista de los contenidos clave de un report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prueba de aprobación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bir las formas en que se puede facilitar la lectur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sponder debidamente a las preguntas que hacen los clientes después de recibir su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488880" y="8728200"/>
            <a:ext cx="5607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stos son los seis elementos del Reporte de pruebas de aprobación de polvo con plo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 formularios en blanco que se pueden usar para la Portada, Resumen de los resultados de muestreo y Resultados de inspección visual se proporcionan en 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éndice 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 este cur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mbién se incluye una copia del folle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novar correctamente: Información importante para familias, proveedores de cuidado infantil y escuelas acerca del peligro del plom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 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éndic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bido a que el HUD incluye unos requisitos de inspección visual más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xhaustiv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que la regla de la EPA, el HUD requiere información adicional referente a los detalles del reporte de prueba de aprobación de polvo con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88880" y="8728200"/>
            <a:ext cx="5607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bido a que el HUD incluye unos requisitos de inspección visual más extensivos que la regla de la EPA, el HUD requiere información adicional referente a los detalles del reporte de prueba de aprobación de polvo con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88880" y="8728200"/>
            <a:ext cx="5607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88880" y="8728200"/>
            <a:ext cx="5454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488880" y="8728200"/>
            <a:ext cx="5454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4E14-CA11-406A-8632-F7177432D498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FBD20455-B35D-4066-8F49-108A9F43A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0E1E412F-F3A0-4E6D-9BF2-C8BC7E7AE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027E-464B-4386-8B7B-161709131DF4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28D0B2CA-587A-4A0A-B51E-63964363D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8242-2146-44F1-A00B-1564330D5826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AA66D65D-AF37-402D-8214-FF74135B9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6E36-53ED-4A0D-8A40-0F4325CE6B88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5FFEA9CA-49B6-422B-982A-B3FEF8C02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A736-F747-4310-A43B-5962ADF72A78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6A5F1073-AE3C-43E7-934C-F8BA5DFC6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4D0B-6143-428D-808D-4EC5164DF1CD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B5C2ECD2-A175-4145-9824-03E3E291C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89EB-E082-4785-BA91-27BED7208CDF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23D8AACE-60F8-457E-A846-75EE441D9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2268-3D47-4BA8-A922-394B9E5F5123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D79EC5B2-F25E-4A63-8B1F-0E774E4D7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C760-40A1-4F1C-BE82-56EDBFA2BF76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Capítulo 5</a:t>
            </a:r>
            <a:br>
              <a:rPr sz="4000"/>
            </a:b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Redacción del reporte</a:t>
            </a:r>
            <a:endParaRPr b="1" lang="en-US" sz="40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90720" y="2971800"/>
            <a:ext cx="7162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Preparado por la Agencia de Protección Ambiental de EE.UU. y el Departamento de Vivienda y Urbanismo de EE.UU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53352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una lista de los artículos que componen un reporte completo de pruebas de aprobación de polvo con plom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que el reporte sea fácil de entender para el client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Contenido del reporte - RRP de la EPA 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28520" y="1599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tad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men de los resultados de muestreo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s de la inspección visu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s analíticos del laboratorio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lleto Renovar correctamente (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péndice B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Contenido del reporte - LSHR del HUD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rección de la propiedad y si es multifamiliar, unidades específicas y áreas comunes afectada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echa del examen de aprobación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mbre, dirección y firma de la persona que efectúa la aprobación incluido el número de certificación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ltados de la inspección visu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"/>
              </a:rPr>
              <a:t>Contenido del reporte - LSHR del HUD (cont.) </a:t>
            </a:r>
            <a:endParaRPr b="1" lang="en-US" sz="28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del muestreo de polv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 y dirección de cada laboratorio que analizó los resultado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echas de inicio y terminación del trabajo efectua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ripción escrita detallada de los métodos usados durante el trabajo y ubicaciones específicas detalladas donde se produjo el trabaj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han corregido peligros del suelo, descripción de la ubicación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: Redacción del report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285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ulte l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exos 5-A y 5-B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ase los reportes de aprobación de polvo con plomo en blanco y completado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28520" y="1981080"/>
            <a:ext cx="7086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artículos que componen un reporte completo de pruebas de aprobación de polvo con plom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mo hacer que el reporte sea fácil de entender para un client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Pivetz, Timothy</cp:lastModifiedBy>
  <cp:lastPrinted>2000-06-30T16:30:52Z</cp:lastPrinted>
  <dcterms:modified xsi:type="dcterms:W3CDTF">2011-11-29T14:26:32Z</dcterms:modified>
  <cp:revision>166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x0020_Type">
    <vt:lpwstr/>
  </property>
  <property fmtid="{D5CDD505-2E9C-101B-9397-08002B2CF9AE}" pid="3" name="EPA_x0020_Subject">
    <vt:lpwstr/>
  </property>
  <property fmtid="{D5CDD505-2E9C-101B-9397-08002B2CF9AE}" pid="4" name="TaxCatchAll">
    <vt:lpwstr/>
  </property>
  <property fmtid="{D5CDD505-2E9C-101B-9397-08002B2CF9AE}" pid="5" name="TaxKeyword">
    <vt:lpwstr/>
  </property>
  <property fmtid="{D5CDD505-2E9C-101B-9397-08002B2CF9AE}" pid="6" name="TaxKeywordTaxHTField">
    <vt:lpwstr/>
  </property>
  <property fmtid="{D5CDD505-2E9C-101B-9397-08002B2CF9AE}" pid="7" name="e3f09c3df709400db2417a7161762d62">
    <vt:lpwstr/>
  </property>
  <property fmtid="{D5CDD505-2E9C-101B-9397-08002B2CF9AE}" pid="8" name="j747ac98061d40f0aa7bd47e1db5675d">
    <vt:lpwstr/>
  </property>
</Properties>
</file>